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2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4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Group 35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Rectangle 4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Group 3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Estimating Age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the name of each person in the “name” column of the table on your worksh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the estimated age of each person in the “guess” column of the table on your worksh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lson Mandell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mandela"/>
          <p:cNvPicPr/>
          <p:nvPr/>
        </p:nvPicPr>
        <p:blipFill>
          <a:blip r:embed="rId1"/>
          <a:stretch/>
        </p:blipFill>
        <p:spPr>
          <a:xfrm>
            <a:off x="2971800" y="1981080"/>
            <a:ext cx="35179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prah Winfre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3" name="Picture 1024" descr="Oprah_Winfrey"/>
          <p:cNvPicPr/>
          <p:nvPr/>
        </p:nvPicPr>
        <p:blipFill>
          <a:blip r:embed="rId1"/>
          <a:stretch/>
        </p:blipFill>
        <p:spPr>
          <a:xfrm>
            <a:off x="3200400" y="1600200"/>
            <a:ext cx="36972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arack Oba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5" name="Picture 11" descr="160px-ObamaBarack"/>
          <p:cNvPicPr/>
          <p:nvPr/>
        </p:nvPicPr>
        <p:blipFill>
          <a:blip r:embed="rId1"/>
          <a:stretch/>
        </p:blipFill>
        <p:spPr>
          <a:xfrm>
            <a:off x="3335400" y="1752480"/>
            <a:ext cx="321768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on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Picture 3" descr="bono"/>
          <p:cNvPicPr/>
          <p:nvPr/>
        </p:nvPicPr>
        <p:blipFill>
          <a:blip r:embed="rId1"/>
          <a:stretch/>
        </p:blipFill>
        <p:spPr>
          <a:xfrm>
            <a:off x="3389400" y="1981080"/>
            <a:ext cx="327816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haquille O’Ne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9" name="Picture 12" descr="shaq"/>
          <p:cNvPicPr/>
          <p:nvPr/>
        </p:nvPicPr>
        <p:blipFill>
          <a:blip r:embed="rId1"/>
          <a:stretch/>
        </p:blipFill>
        <p:spPr>
          <a:xfrm>
            <a:off x="2666880" y="1905120"/>
            <a:ext cx="4724640" cy="3751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ulia Rober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1" name="Picture 21" descr="julia1"/>
          <p:cNvPicPr/>
          <p:nvPr/>
        </p:nvPicPr>
        <p:blipFill>
          <a:blip r:embed="rId1"/>
          <a:stretch/>
        </p:blipFill>
        <p:spPr>
          <a:xfrm>
            <a:off x="2971800" y="1752480"/>
            <a:ext cx="3305160" cy="4419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erena William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3" name="Picture 5" descr="french044"/>
          <p:cNvPicPr/>
          <p:nvPr/>
        </p:nvPicPr>
        <p:blipFill>
          <a:blip r:embed="rId1"/>
          <a:stretch/>
        </p:blipFill>
        <p:spPr>
          <a:xfrm>
            <a:off x="3276720" y="1833480"/>
            <a:ext cx="3300120" cy="4872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eorge W. Bus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7" name="Picture 6" descr="George-W-Bush"/>
          <p:cNvPicPr/>
          <p:nvPr/>
        </p:nvPicPr>
        <p:blipFill>
          <a:blip r:embed="rId1"/>
          <a:stretch/>
        </p:blipFill>
        <p:spPr>
          <a:xfrm>
            <a:off x="3124080" y="1828800"/>
            <a:ext cx="329436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ctual Ag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er Woods -- 32 -- December 30, 19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llary Clinton -- 60 -- October 26, 194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 Cruise -- 46 --  July 3, 196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Radcliffe -- 19 – July 23, 198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McCain --  71 – August 29, 19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a Angelou -- 80 -- April 4, 19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oleezza Rice -- 53 – November 14, 195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ngo Starr -- 68 -- July 7, 19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ctual Ag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lson Mandella -- 90 -- July 18,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rah Winfrey -- 54-- January 24, 195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ack Obama – 46 – August 4, 196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o -- 48 – May 10, 19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quille O’Neal -- 36 -- March 6, 197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a Roberts – 40 -- October 28, 196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ena Williams -- 26 -- September 26, 198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. Bush -- 62 -- July 6, 194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iger Woo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9" name="Picture 1036" descr="celeb_b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41" descr="tiger_woods_6"/>
          <p:cNvPicPr/>
          <p:nvPr/>
        </p:nvPicPr>
        <p:blipFill>
          <a:blip r:embed="rId2"/>
          <a:stretch/>
        </p:blipFill>
        <p:spPr>
          <a:xfrm>
            <a:off x="3200400" y="1676520"/>
            <a:ext cx="353700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67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Group 3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69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Rectangle 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Rectangle 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Rectangle 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Rectangle 1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Rectangle 2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Rectangle 2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Rectangle 2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Rectangle 2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well did you estimat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4674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buClr>
                <a:srgbClr val="00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etch a graph of the data on graph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your axes and your ordered pairs (with initial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ruler to draw the “best fit” trend line through your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same color as your data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 the equation of the “perfect-guess” line in a different col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01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Group 3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203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Rectangle 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Rectangle 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Rectangle 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1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1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1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1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2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2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2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2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well did you estimat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buClr>
                <a:srgbClr val="00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your data, create a scatter plot on your graphing calculator.  Choose a viewing window and sketch the graph on your worksh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fy your viewing window choice on your worksh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your calculator, graph your “perfect guess” line over the scatter plot (using Y=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33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35" name="Rectangle 2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6" name="Group 3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237" name="Rectangle 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1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1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1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1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1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1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1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1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1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1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2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2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2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2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2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2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2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2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2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2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3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3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well did you estimat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42640" y="22856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buClr>
                <a:srgbClr val="00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 partner, discuss whether you are an “over-guesser” or an “under-guesser”?  Explain your stance on your worksh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illary Clint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12" name="Picture 9" descr="hillary_clinton_115571a"/>
          <p:cNvPicPr/>
          <p:nvPr/>
        </p:nvPicPr>
        <p:blipFill>
          <a:blip r:embed="rId1"/>
          <a:stretch/>
        </p:blipFill>
        <p:spPr>
          <a:xfrm>
            <a:off x="3429000" y="1676520"/>
            <a:ext cx="3313080" cy="463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om Crui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16" name="Picture 11" descr="cruise2"/>
          <p:cNvPicPr/>
          <p:nvPr/>
        </p:nvPicPr>
        <p:blipFill>
          <a:blip r:embed="rId1"/>
          <a:stretch/>
        </p:blipFill>
        <p:spPr>
          <a:xfrm>
            <a:off x="3276720" y="1752480"/>
            <a:ext cx="3441600" cy="4851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aniel Radlif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0" name="Picture 13" descr="harry_studio"/>
          <p:cNvPicPr/>
          <p:nvPr/>
        </p:nvPicPr>
        <p:blipFill>
          <a:blip r:embed="rId1"/>
          <a:stretch/>
        </p:blipFill>
        <p:spPr>
          <a:xfrm>
            <a:off x="3517920" y="1981080"/>
            <a:ext cx="30225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ohn McCa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2" name="Picture 5" descr="175px-John_McCain_official_photo_portrait-cropped"/>
          <p:cNvPicPr/>
          <p:nvPr/>
        </p:nvPicPr>
        <p:blipFill>
          <a:blip r:embed="rId1"/>
          <a:stretch/>
        </p:blipFill>
        <p:spPr>
          <a:xfrm>
            <a:off x="3298680" y="1676520"/>
            <a:ext cx="3237120" cy="4419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aya Angelou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6" name="Picture 8" descr="maya111404"/>
          <p:cNvPicPr/>
          <p:nvPr/>
        </p:nvPicPr>
        <p:blipFill>
          <a:blip r:embed="rId1"/>
          <a:stretch/>
        </p:blipFill>
        <p:spPr>
          <a:xfrm>
            <a:off x="2743200" y="1752480"/>
            <a:ext cx="44910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doleezza R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0" name="Picture 9" descr="condi8"/>
          <p:cNvPicPr/>
          <p:nvPr/>
        </p:nvPicPr>
        <p:blipFill>
          <a:blip r:embed="rId1"/>
          <a:stretch/>
        </p:blipFill>
        <p:spPr>
          <a:xfrm>
            <a:off x="3581280" y="1676520"/>
            <a:ext cx="315432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ingo Star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4" name="Picture 0" descr="untitled"/>
          <p:cNvPicPr/>
          <p:nvPr/>
        </p:nvPicPr>
        <p:blipFill>
          <a:blip r:embed="rId1"/>
          <a:stretch/>
        </p:blipFill>
        <p:spPr>
          <a:xfrm>
            <a:off x="3814920" y="1752480"/>
            <a:ext cx="27320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19:06:32Z</dcterms:created>
  <dc:creator>Jill L. Gough</dc:creator>
  <dc:description/>
  <cp:keywords/>
  <dc:language>en-US</dc:language>
  <cp:lastModifiedBy>Janna Smith</cp:lastModifiedBy>
  <cp:lastPrinted>2008-04-21T17:54:30Z</cp:lastPrinted>
  <dcterms:modified xsi:type="dcterms:W3CDTF">2008-07-31T19:47:37Z</dcterms:modified>
  <cp:revision>50</cp:revision>
  <dc:subject/>
  <dc:title>Estimating Age</dc:title>
</cp:coreProperties>
</file>